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8F7-2861-44B9-A52A-3BFC7889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D28-5393-4DBD-93DD-61A16F97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2EC-2556-44D8-9DF1-F0DFE51C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35C-D2E7-4AC6-9601-0E7A4244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B38-4F6C-4D3B-8EDB-B5B91C3F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4C58-E875-4844-920A-2EE3685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D621-D0C1-4898-ADFA-0075E05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4AA7-98BA-4D18-B669-2FE2C7AD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C136-F4B9-489C-BA6F-3999808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B81F-2AB2-41D5-A308-29FEA165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12B-E638-4999-8BAF-BD862524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D9E-EA0A-4102-9CB6-A42A2EF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AA62-4DB3-478E-A809-28D3831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318-0DF2-42AF-8304-8AEA9E95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F7C-8CCE-4B29-84AF-96179F67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3FF1-FEC8-48D6-8B4E-41D35318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5F41-D8BC-4199-A853-E6B3857E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2DA-C830-45BA-AB25-EBDD5E8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9DE-79A5-4059-8A52-AEE2B93F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4A2D-9B06-4D98-BA78-52910AEA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517-D7C9-4E2A-A99B-07C4490B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04E-E3EE-4AA3-8B4D-F3FF9A13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547-D5BD-4AF4-834A-3C8E186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6E8-0773-4CDA-85CE-7B346A0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3E55-6EFE-41BD-AA94-DACD0938B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47E-E556-48E7-BE47-FA71CFEE5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waiisenergyfuture.com/Articles/Garbage_To_Energy.html" TargetMode="External"/><Relationship Id="rId3" Type="http://schemas.openxmlformats.org/officeDocument/2006/relationships/hyperlink" Target="http://starbulletin.com/2006/02/16/news/story01.html" TargetMode="External"/><Relationship Id="rId4" Type="http://schemas.openxmlformats.org/officeDocument/2006/relationships/hyperlink" Target="http://www.hawaiisenergyfuture.com/Articles/Garbage_To_Energy.html" TargetMode="External"/><Relationship Id="rId5" Type="http://schemas.openxmlformats.org/officeDocument/2006/relationships/hyperlink" Target="http://starbulletin.com/2006/02/16/news/story01.html" TargetMode="External"/><Relationship Id="rId6" Type="http://schemas.openxmlformats.org/officeDocument/2006/relationships/hyperlink" Target="http://starbulletin.com/2004/11/14/news/story2.html" TargetMode="External"/><Relationship Id="rId7" Type="http://schemas.openxmlformats.org/officeDocument/2006/relationships/hyperlink" Target="http://www.honoluluhpower.com/About.asp" TargetMode="External"/><Relationship Id="rId8" Type="http://schemas.openxmlformats.org/officeDocument/2006/relationships/hyperlink" Target="http://www.honoluluhpower.com/About.asp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startech.net/photoPages/pic6.htm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a.gov/centers/goddard/news/topstory/2003/0508landfill.html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Converting Garbage Into Usabl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4343400"/>
            <a:ext cx="701028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amantha Lee, Chris Han, &amp; Michelle Jo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ile of Garbage to Pile of Cash?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ci-Tech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3 July 2005.  CBS News.  20 March 2007.  http://www.cbsnews.com/stories/2005/07/13/tech/main708741.s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ham-Rowe, Duncan.  “Making the Best of Garbage Gas.”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he World’s No.1 Science and Technology New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March 2005.  20 March 2007.  http://www.newscientist.com/article.ns?id=dn704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n, Daniela.  “Converting Trash Gas into Energy Gold.” 5 March 2006. CNN. 20 March 2007. http://www.cnn.com/2006/TECH/05/05/landfill.gas/index.html?section=cnn_lat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SA Warms Up to Maryland’s Trash.”  8 May 2003.  NASA. 20 March 2007. 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nasa.gov/centers/goddard/news/topstory/2003/0508landf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popsci.com/popsci/science/873aae7bf86c0110vgnvcm1000004eecbccdrcrd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hawaiisenergyfuture.com/Articles/Garbage_To_Energ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starbulletin.com/2006/02/16/news/story01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waimanalo Gulch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ndfill cl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starbulletin.com/2004/11/14/news/story2.htm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Debate for new landfill 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www.honoluluhpower.com/About.as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- Incinerator 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envhonolulu.org/solid_waste/archive/How_our_City_manages_our_waste.html 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 where our trash go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10400" cy="71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Currently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4497120"/>
            <a:ext cx="8613720" cy="23605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ollect approximately 1.76 million tons of trash each year from the island of Oa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two landfills on the island – Nanakuli &amp; Waimanalo Gul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rash is recycled in some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81080" y="1143000"/>
            <a:ext cx="5181840" cy="32130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H-Power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/when/why: A program devised since the 1987 to help Oahu reduce its trash and dependency on o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/how? Reduces the volume of trash by 90% &amp; produces 7% of the islands electricity through combustion in water-cooled furnaces at over 18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83120" y="1933560"/>
            <a:ext cx="3524400" cy="161928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048120" cy="1930320"/>
          </a:xfrm>
          <a:prstGeom prst="rect">
            <a:avLst/>
          </a:prstGeom>
          <a:ln w="76320">
            <a:solidFill>
              <a:srgbClr val="333333"/>
            </a:solidFill>
            <a:miter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Times New Roman"/>
              </a:rPr>
              <a:t>The Issue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manalo Gulch is closing on Ma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different interests &amp; ideas inv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erra club (Recycling curb bill)/Ko Olina resort (Loc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p off island / Increase H-power / Choose a new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art"/>
          <p:cNvPicPr/>
          <p:nvPr/>
        </p:nvPicPr>
        <p:blipFill>
          <a:blip r:embed="rId2"/>
          <a:stretch/>
        </p:blipFill>
        <p:spPr>
          <a:xfrm>
            <a:off x="685800" y="1295280"/>
            <a:ext cx="3728880" cy="533412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4226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: Joseph Lon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stol, Connectic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a gasification-30,0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 plasma disintegrates tr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s obsidian-like glass and “syng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s of energy: usable fuel and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343400" cy="2892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886200" y="5073480"/>
            <a:ext cx="541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http://www.popsci.com/popsci/science/873aae7bf86c0110vgnvcm1000004eecbccdrcrd.htm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Facts About Plasma Conver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3809880"/>
            <a:ext cx="8541000" cy="3276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: $25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,000 tons of waste da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ers 1,000,000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sell “syngas” and surplu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more tipping fee for landfill ($35 per t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moke, ash, or pol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657600" cy="243828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  <p:pic>
        <p:nvPicPr>
          <p:cNvPr id="1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2743200" cy="20574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5438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352680" cy="22352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238880" y="4495680"/>
            <a:ext cx="1487520" cy="198144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057400" cy="15429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3352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ricans produce about 4.5 pounds of garbage per person each da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America’s waste is put into landfi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 landfills contribute a third of all methane emissions worldw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20 times stronger than carbon dioxide as a greenhouse g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 of 2005, 396 landfills collected methane gas for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fill gas is about 50% metha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5320" y="1980720"/>
            <a:ext cx="404028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thane is made when garbage decomposes without oxyg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tracted by the pipes or wells in the landf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oes to a purification plant to filter out small particles and water (water-less gas is easier to transport and bur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fter purification gas is sent to wherever it is us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s is burned to make steam to turn turbines, making electric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139760" cy="1752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361960" cy="15397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3533760" cy="19954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438280" y="3352680"/>
            <a:ext cx="1600200" cy="105408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3" name="" descr="story.converter.jpg"/>
          <p:cNvPicPr/>
          <p:nvPr/>
        </p:nvPicPr>
        <p:blipFill>
          <a:blip r:embed="rId6"/>
          <a:stretch/>
        </p:blipFill>
        <p:spPr>
          <a:xfrm>
            <a:off x="1981080" y="1523880"/>
            <a:ext cx="2095560" cy="16002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Times New Roman"/>
              </a:rPr>
              <a:t>Advantages &amp; Disadvantag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9920" cy="441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is still cheape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uilding pipelines to carry methane is expens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aking away the gas controls odor problems for resid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sing methane reduces greenhouse gas, helps the ozone (examples: NASA, Interface Flooring, Waverl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Photo of Landfill Gas Processing Plant, Sandy Hill Landfill in Bowie, Md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905120"/>
            <a:ext cx="3305160" cy="2266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00200" y="5105520"/>
            <a:ext cx="1438200" cy="138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48320" y="4495680"/>
            <a:ext cx="3429000" cy="1868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mi Chang</cp:lastModifiedBy>
  <dcterms:modified xsi:type="dcterms:W3CDTF">2007-04-04T07:28:06Z</dcterms:modified>
  <cp:revision>37</cp:revision>
  <dc:subject/>
  <dc:title>Currently…</dc:title>
</cp:coreProperties>
</file>